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ff33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178840" y="5927760"/>
            <a:ext cx="811080" cy="74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1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ttersi a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6858000" y="1193760"/>
            <a:ext cx="1295280" cy="1854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476360" y="3900600"/>
            <a:ext cx="1495440" cy="671400"/>
            <a:chOff x="1476360" y="3900600"/>
            <a:chExt cx="1495440" cy="671400"/>
          </a:xfrm>
        </p:grpSpPr>
        <p:sp>
          <p:nvSpPr>
            <p:cNvPr id="695" name=""/>
            <p:cNvSpPr/>
            <p:nvPr/>
          </p:nvSpPr>
          <p:spPr>
            <a:xfrm>
              <a:off x="14875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63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604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112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83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542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970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37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081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907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48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716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6398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590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2459160" y="4195800"/>
              <a:ext cx="358560" cy="52560"/>
              <a:chOff x="2459160" y="4195800"/>
              <a:chExt cx="358560" cy="52560"/>
            </a:xfrm>
          </p:grpSpPr>
          <p:sp>
            <p:nvSpPr>
              <p:cNvPr id="710" name=""/>
              <p:cNvSpPr/>
              <p:nvPr/>
            </p:nvSpPr>
            <p:spPr>
              <a:xfrm>
                <a:off x="24591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484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508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35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563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590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17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643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7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93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20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49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76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01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19400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718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05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3986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416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859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209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1628640" y="4267080"/>
              <a:ext cx="208080" cy="92160"/>
              <a:chOff x="1628640" y="4267080"/>
              <a:chExt cx="208080" cy="92160"/>
            </a:xfrm>
          </p:grpSpPr>
          <p:sp>
            <p:nvSpPr>
              <p:cNvPr id="732" name=""/>
              <p:cNvSpPr/>
              <p:nvPr/>
            </p:nvSpPr>
            <p:spPr>
              <a:xfrm>
                <a:off x="16286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668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7049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366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48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8144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7748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8144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"/>
          <p:cNvSpPr/>
          <p:nvPr/>
        </p:nvSpPr>
        <p:spPr>
          <a:xfrm>
            <a:off x="762120" y="3200400"/>
            <a:ext cx="0" cy="12193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62120" y="4419720"/>
            <a:ext cx="6858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62560" y="3900600"/>
            <a:ext cx="1495440" cy="671400"/>
            <a:chOff x="5362560" y="3900600"/>
            <a:chExt cx="1495440" cy="671400"/>
          </a:xfrm>
        </p:grpSpPr>
        <p:sp>
          <p:nvSpPr>
            <p:cNvPr id="743" name=""/>
            <p:cNvSpPr/>
            <p:nvPr/>
          </p:nvSpPr>
          <p:spPr>
            <a:xfrm>
              <a:off x="53737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625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466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974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245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404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32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499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943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769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610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578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260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6452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6345360" y="4195800"/>
              <a:ext cx="358560" cy="52560"/>
              <a:chOff x="6345360" y="4195800"/>
              <a:chExt cx="358560" cy="52560"/>
            </a:xfrm>
          </p:grpSpPr>
          <p:sp>
            <p:nvSpPr>
              <p:cNvPr id="758" name=""/>
              <p:cNvSpPr/>
              <p:nvPr/>
            </p:nvSpPr>
            <p:spPr>
              <a:xfrm>
                <a:off x="6345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3705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3943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213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5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477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04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293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63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80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607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35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662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688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58262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580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67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2848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278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5721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7071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514840" y="4267080"/>
              <a:ext cx="208080" cy="92160"/>
              <a:chOff x="5514840" y="4267080"/>
              <a:chExt cx="208080" cy="92160"/>
            </a:xfrm>
          </p:grpSpPr>
          <p:sp>
            <p:nvSpPr>
              <p:cNvPr id="780" name=""/>
              <p:cNvSpPr/>
              <p:nvPr/>
            </p:nvSpPr>
            <p:spPr>
              <a:xfrm>
                <a:off x="55148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530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5911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228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610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006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610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7006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5896080" y="1436760"/>
            <a:ext cx="873000" cy="15350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3048120" y="4419720"/>
            <a:ext cx="22860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908760" y="1355760"/>
            <a:ext cx="116676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g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172200" y="2971800"/>
            <a:ext cx="0" cy="91440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72200" y="3352680"/>
            <a:ext cx="220968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8600" y="518148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24080" y="5181480"/>
            <a:ext cx="21337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181480" y="5181480"/>
            <a:ext cx="30481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1814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1127160" y="5394240"/>
            <a:ext cx="108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565440" y="5394240"/>
            <a:ext cx="132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080040" y="5394240"/>
            <a:ext cx="136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81296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23268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3"/>
          <a:stretch/>
        </p:blipFill>
        <p:spPr>
          <a:xfrm>
            <a:off x="824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4"/>
          <a:stretch/>
        </p:blipFill>
        <p:spPr>
          <a:xfrm>
            <a:off x="9968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5"/>
          <a:stretch/>
        </p:blipFill>
        <p:spPr>
          <a:xfrm>
            <a:off x="82440" y="175248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6"/>
          <a:stretch/>
        </p:blipFill>
        <p:spPr>
          <a:xfrm>
            <a:off x="2292480" y="1752480"/>
            <a:ext cx="831960" cy="74628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152280" y="1600200"/>
            <a:ext cx="335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7"/>
          <a:stretch/>
        </p:blipFill>
        <p:spPr>
          <a:xfrm>
            <a:off x="1905120" y="380880"/>
            <a:ext cx="1508040" cy="106668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38088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60948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37160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76720" y="13716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74320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523880" y="16002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8"/>
          <a:stretch/>
        </p:blipFill>
        <p:spPr>
          <a:xfrm>
            <a:off x="595440" y="2739960"/>
            <a:ext cx="1843200" cy="5716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 txBox="1"/>
          <p:nvPr/>
        </p:nvSpPr>
        <p:spPr>
          <a:xfrm>
            <a:off x="746280" y="3328920"/>
            <a:ext cx="85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544920" y="2376360"/>
            <a:ext cx="1131840" cy="14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4191120"/>
            <a:ext cx="304920" cy="457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038480" y="3962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1295280" cy="18543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523880" y="2743200"/>
            <a:ext cx="0" cy="12193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523880" y="3962520"/>
            <a:ext cx="472464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2847960" y="3519360"/>
            <a:ext cx="1495440" cy="671760"/>
            <a:chOff x="2847960" y="3519360"/>
            <a:chExt cx="1495440" cy="671760"/>
          </a:xfrm>
        </p:grpSpPr>
        <p:sp>
          <p:nvSpPr>
            <p:cNvPr id="829" name=""/>
            <p:cNvSpPr/>
            <p:nvPr/>
          </p:nvSpPr>
          <p:spPr>
            <a:xfrm>
              <a:off x="2859120" y="351936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47960" y="373860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32080" y="388620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82840" y="394668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09920" y="394668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25880" y="394668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68680" y="395136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35360" y="395136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79720" y="395136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62320" y="395136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46480" y="356220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43240" y="368784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11400" y="414504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30640" y="414036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3830760" y="3814920"/>
              <a:ext cx="358560" cy="52560"/>
              <a:chOff x="3830760" y="3814920"/>
              <a:chExt cx="358560" cy="52560"/>
            </a:xfrm>
          </p:grpSpPr>
          <p:sp>
            <p:nvSpPr>
              <p:cNvPr id="844" name=""/>
              <p:cNvSpPr/>
              <p:nvPr/>
            </p:nvSpPr>
            <p:spPr>
              <a:xfrm>
                <a:off x="383076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85596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879720" y="381492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906720" y="381492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9355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625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9895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0147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0417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0654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0924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1212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1482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734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3311640" y="407844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43400" y="4081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02160" y="408312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70280" y="408312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13200" y="408312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57560" y="408924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92560" y="408924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3000240" y="3886200"/>
              <a:ext cx="208080" cy="92160"/>
              <a:chOff x="3000240" y="3886200"/>
              <a:chExt cx="208080" cy="92160"/>
            </a:xfrm>
          </p:grpSpPr>
          <p:sp>
            <p:nvSpPr>
              <p:cNvPr id="866" name=""/>
              <p:cNvSpPr/>
              <p:nvPr/>
            </p:nvSpPr>
            <p:spPr>
              <a:xfrm>
                <a:off x="3000240" y="388620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38400" y="388620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76560" y="388620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08240" y="388620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146400" y="388620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186000" y="388620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46400" y="393552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86000" y="394020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"/>
          <p:cNvSpPr/>
          <p:nvPr/>
        </p:nvSpPr>
        <p:spPr>
          <a:xfrm>
            <a:off x="6934320" y="3352680"/>
            <a:ext cx="0" cy="5335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6276960" y="3519360"/>
            <a:ext cx="1495440" cy="671760"/>
            <a:chOff x="6276960" y="3519360"/>
            <a:chExt cx="1495440" cy="671760"/>
          </a:xfrm>
        </p:grpSpPr>
        <p:sp>
          <p:nvSpPr>
            <p:cNvPr id="876" name=""/>
            <p:cNvSpPr/>
            <p:nvPr/>
          </p:nvSpPr>
          <p:spPr>
            <a:xfrm>
              <a:off x="6288120" y="351936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76960" y="373860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61080" y="388620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11840" y="394668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38920" y="394668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54880" y="394668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97680" y="395136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64360" y="395136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08720" y="395136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591320" y="395136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75480" y="356220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72240" y="368784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40400" y="414504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59640" y="414036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7259760" y="3814920"/>
              <a:ext cx="358560" cy="52560"/>
              <a:chOff x="7259760" y="3814920"/>
              <a:chExt cx="358560" cy="52560"/>
            </a:xfrm>
          </p:grpSpPr>
          <p:sp>
            <p:nvSpPr>
              <p:cNvPr id="891" name=""/>
              <p:cNvSpPr/>
              <p:nvPr/>
            </p:nvSpPr>
            <p:spPr>
              <a:xfrm>
                <a:off x="725976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28496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308720" y="381492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335720" y="381492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645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915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4185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437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47072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4944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214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502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772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02480" y="381492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6740640" y="407844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72400" y="4081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1160" y="408312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99280" y="408312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42200" y="408312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86560" y="408924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21560" y="408924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6429240" y="3886200"/>
              <a:ext cx="208080" cy="92160"/>
              <a:chOff x="6429240" y="3886200"/>
              <a:chExt cx="208080" cy="92160"/>
            </a:xfrm>
          </p:grpSpPr>
          <p:sp>
            <p:nvSpPr>
              <p:cNvPr id="913" name=""/>
              <p:cNvSpPr/>
              <p:nvPr/>
            </p:nvSpPr>
            <p:spPr>
              <a:xfrm>
                <a:off x="6429240" y="388620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467400" y="388620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505560" y="388620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537240" y="388620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575400" y="388620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615000" y="388620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575400" y="393552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615000" y="394020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"/>
          <p:cNvSpPr/>
          <p:nvPr/>
        </p:nvSpPr>
        <p:spPr>
          <a:xfrm>
            <a:off x="6934320" y="3352680"/>
            <a:ext cx="144756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" y="2514600"/>
            <a:ext cx="0" cy="33526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28600" y="5638680"/>
            <a:ext cx="434340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181480"/>
            <a:ext cx="137160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5181480"/>
            <a:ext cx="220968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0" y="2514600"/>
            <a:ext cx="0" cy="33526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1992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803680" y="5622840"/>
            <a:ext cx="13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z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632480" y="5394240"/>
            <a:ext cx="132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080040" y="5394240"/>
            <a:ext cx="136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193840" y="325296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7070760" y="439596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824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9968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82440" y="175248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2292480" y="1752480"/>
            <a:ext cx="831960" cy="74628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152280" y="1600200"/>
            <a:ext cx="335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6"/>
          <a:stretch/>
        </p:blipFill>
        <p:spPr>
          <a:xfrm>
            <a:off x="1905120" y="380880"/>
            <a:ext cx="1508040" cy="106668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38088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0948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37160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276720" y="13716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74320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23880" y="16002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7"/>
          <a:stretch/>
        </p:blipFill>
        <p:spPr>
          <a:xfrm>
            <a:off x="900000" y="2739960"/>
            <a:ext cx="1843200" cy="5716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 txBox="1"/>
          <p:nvPr/>
        </p:nvSpPr>
        <p:spPr>
          <a:xfrm>
            <a:off x="746280" y="3328920"/>
            <a:ext cx="85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764240" y="1995480"/>
            <a:ext cx="1131840" cy="14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3733920"/>
            <a:ext cx="304920" cy="457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181480" y="35053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403440" y="136440"/>
            <a:ext cx="116676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66ff33"/>
                </a:solidFill>
                <a:latin typeface="Book Antiqua"/>
                <a:ea typeface="Book Antiqua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66ff33"/>
                </a:solidFill>
                <a:latin typeface="Book Antiqua"/>
                <a:ea typeface="Book Antiqu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66ff33"/>
                </a:solidFill>
                <a:latin typeface="Book Antiqua"/>
                <a:ea typeface="Book Antiqua"/>
              </a:rPr>
              <a:t>g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66ff33"/>
                </a:solidFill>
                <a:latin typeface="Book Antiqua"/>
                <a:ea typeface="Book Antiqua"/>
              </a:rPr>
              <a:t>I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6324480" y="762120"/>
            <a:ext cx="233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y Marino, @i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04640" y="304920"/>
            <a:ext cx="8358480" cy="6400800"/>
            <a:chOff x="404640" y="304920"/>
            <a:chExt cx="8358480" cy="6400800"/>
          </a:xfrm>
        </p:grpSpPr>
        <p:sp>
          <p:nvSpPr>
            <p:cNvPr id="95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 txBox="1"/>
            <p:nvPr/>
          </p:nvSpPr>
          <p:spPr>
            <a:xfrm>
              <a:off x="533520" y="304920"/>
              <a:ext cx="82296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cc99"/>
                  </a:solidFill>
                  <a:latin typeface="Arial MT"/>
                  <a:ea typeface="Arial MT"/>
                </a:rPr>
                <a:t>Il budget degli IS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79640" y="5613480"/>
              <a:ext cx="5753520" cy="419400"/>
            </a:xfrm>
            <a:custGeom>
              <a:avLst/>
              <a:gdLst/>
              <a:ahLst/>
              <a:rect l="0" t="0" r="r" b="b"/>
              <a:pathLst>
                <a:path w="15982" h="1165">
                  <a:moveTo>
                    <a:pt x="15982" y="0"/>
                  </a:moveTo>
                  <a:lnTo>
                    <a:pt x="13623" y="1165"/>
                  </a:lnTo>
                  <a:lnTo>
                    <a:pt x="0" y="1165"/>
                  </a:lnTo>
                  <a:lnTo>
                    <a:pt x="2359" y="0"/>
                  </a:lnTo>
                  <a:lnTo>
                    <a:pt x="15982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79640" y="1295280"/>
              <a:ext cx="838440" cy="4737600"/>
            </a:xfrm>
            <a:custGeom>
              <a:avLst/>
              <a:gdLst/>
              <a:ahLst/>
              <a:rect l="0" t="0" r="r" b="b"/>
              <a:pathLst>
                <a:path fill="none" w="2329" h="13160">
                  <a:moveTo>
                    <a:pt x="0" y="13160"/>
                  </a:moveTo>
                  <a:lnTo>
                    <a:pt x="0" y="1195"/>
                  </a:lnTo>
                  <a:lnTo>
                    <a:pt x="2329" y="0"/>
                  </a:lnTo>
                  <a:lnTo>
                    <a:pt x="2329" y="11965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930320" y="1295280"/>
              <a:ext cx="4902480" cy="4305600"/>
            </a:xfrm>
            <a:custGeom>
              <a:avLst/>
              <a:gdLst/>
              <a:ahLst/>
              <a:rect l="0" t="0" r="r" b="b"/>
              <a:pathLst>
                <a:path fill="none" w="13618" h="11960">
                  <a:moveTo>
                    <a:pt x="0" y="11960"/>
                  </a:moveTo>
                  <a:lnTo>
                    <a:pt x="0" y="0"/>
                  </a:lnTo>
                  <a:lnTo>
                    <a:pt x="13618" y="0"/>
                  </a:lnTo>
                  <a:lnTo>
                    <a:pt x="13618" y="1196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9640" y="5613480"/>
              <a:ext cx="5766120" cy="432000"/>
            </a:xfrm>
            <a:custGeom>
              <a:avLst/>
              <a:gdLst/>
              <a:ahLst/>
              <a:rect l="0" t="0" r="r" b="b"/>
              <a:pathLst>
                <a:path fill="none" w="16017" h="1200">
                  <a:moveTo>
                    <a:pt x="16017" y="0"/>
                  </a:moveTo>
                  <a:lnTo>
                    <a:pt x="13653" y="1200"/>
                  </a:lnTo>
                  <a:lnTo>
                    <a:pt x="0" y="1200"/>
                  </a:lnTo>
                  <a:lnTo>
                    <a:pt x="236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9640" y="1295280"/>
              <a:ext cx="851400" cy="4750200"/>
            </a:xfrm>
            <a:custGeom>
              <a:avLst/>
              <a:gdLst/>
              <a:ahLst/>
              <a:rect l="0" t="0" r="r" b="b"/>
              <a:pathLst>
                <a:path fill="none" w="2365" h="13195">
                  <a:moveTo>
                    <a:pt x="0" y="13195"/>
                  </a:moveTo>
                  <a:lnTo>
                    <a:pt x="0" y="1199"/>
                  </a:lnTo>
                  <a:lnTo>
                    <a:pt x="2365" y="0"/>
                  </a:lnTo>
                  <a:lnTo>
                    <a:pt x="2365" y="11996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930320" y="1295280"/>
              <a:ext cx="4915440" cy="4318200"/>
            </a:xfrm>
            <a:custGeom>
              <a:avLst/>
              <a:gdLst/>
              <a:ahLst/>
              <a:rect l="0" t="0" r="r" b="b"/>
              <a:pathLst>
                <a:path fill="none" w="13654" h="11995">
                  <a:moveTo>
                    <a:pt x="0" y="11995"/>
                  </a:moveTo>
                  <a:lnTo>
                    <a:pt x="0" y="0"/>
                  </a:lnTo>
                  <a:lnTo>
                    <a:pt x="13654" y="0"/>
                  </a:lnTo>
                  <a:lnTo>
                    <a:pt x="13654" y="11995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66680" y="5651640"/>
              <a:ext cx="492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79640" y="563868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30520" y="563868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94360" y="563868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66680" y="6045120"/>
              <a:ext cx="492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79640" y="603252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530520" y="603252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94360" y="603252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1979640" y="614376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Ita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4479840" y="614376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1917720" y="5219640"/>
              <a:ext cx="492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93960" y="5219640"/>
              <a:ext cx="864000" cy="635400"/>
            </a:xfrm>
            <a:custGeom>
              <a:avLst/>
              <a:gdLst/>
              <a:ahLst/>
              <a:rect l="0" t="0" r="r" b="b"/>
              <a:pathLst>
                <a:path w="2400" h="1765">
                  <a:moveTo>
                    <a:pt x="2400" y="565"/>
                  </a:moveTo>
                  <a:lnTo>
                    <a:pt x="2400" y="0"/>
                  </a:lnTo>
                  <a:lnTo>
                    <a:pt x="0" y="1200"/>
                  </a:lnTo>
                  <a:lnTo>
                    <a:pt x="0" y="1765"/>
                  </a:lnTo>
                  <a:lnTo>
                    <a:pt x="2400" y="565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16200" y="5651640"/>
              <a:ext cx="978120" cy="203400"/>
            </a:xfrm>
            <a:custGeom>
              <a:avLst/>
              <a:gdLst/>
              <a:ahLst/>
              <a:rect l="0" t="0" r="r" b="b"/>
              <a:pathLst>
                <a:path w="2717" h="565">
                  <a:moveTo>
                    <a:pt x="2717" y="565"/>
                  </a:moveTo>
                  <a:lnTo>
                    <a:pt x="2717" y="0"/>
                  </a:lnTo>
                  <a:lnTo>
                    <a:pt x="0" y="0"/>
                  </a:lnTo>
                  <a:lnTo>
                    <a:pt x="0" y="565"/>
                  </a:lnTo>
                  <a:lnTo>
                    <a:pt x="2717" y="565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3960" y="3657600"/>
              <a:ext cx="864000" cy="1994400"/>
            </a:xfrm>
            <a:custGeom>
              <a:avLst/>
              <a:gdLst/>
              <a:ahLst/>
              <a:rect l="0" t="0" r="r" b="b"/>
              <a:pathLst>
                <a:path w="2400" h="5540">
                  <a:moveTo>
                    <a:pt x="2400" y="4341"/>
                  </a:moveTo>
                  <a:lnTo>
                    <a:pt x="2400" y="0"/>
                  </a:lnTo>
                  <a:lnTo>
                    <a:pt x="0" y="1164"/>
                  </a:lnTo>
                  <a:lnTo>
                    <a:pt x="0" y="5540"/>
                  </a:lnTo>
                  <a:lnTo>
                    <a:pt x="2400" y="4341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816200" y="4076640"/>
              <a:ext cx="978120" cy="1575000"/>
            </a:xfrm>
            <a:custGeom>
              <a:avLst/>
              <a:gdLst/>
              <a:ahLst/>
              <a:rect l="0" t="0" r="r" b="b"/>
              <a:pathLst>
                <a:path w="2717" h="4375">
                  <a:moveTo>
                    <a:pt x="2717" y="4375"/>
                  </a:moveTo>
                  <a:lnTo>
                    <a:pt x="2717" y="0"/>
                  </a:lnTo>
                  <a:lnTo>
                    <a:pt x="0" y="0"/>
                  </a:lnTo>
                  <a:lnTo>
                    <a:pt x="0" y="4375"/>
                  </a:lnTo>
                  <a:lnTo>
                    <a:pt x="2717" y="4375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793960" y="2273400"/>
              <a:ext cx="864000" cy="1803600"/>
            </a:xfrm>
            <a:custGeom>
              <a:avLst/>
              <a:gdLst/>
              <a:ahLst/>
              <a:rect l="0" t="0" r="r" b="b"/>
              <a:pathLst>
                <a:path w="2400" h="5010">
                  <a:moveTo>
                    <a:pt x="2400" y="3846"/>
                  </a:moveTo>
                  <a:lnTo>
                    <a:pt x="2400" y="0"/>
                  </a:lnTo>
                  <a:lnTo>
                    <a:pt x="0" y="1199"/>
                  </a:lnTo>
                  <a:lnTo>
                    <a:pt x="0" y="5010"/>
                  </a:lnTo>
                  <a:lnTo>
                    <a:pt x="2400" y="3846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16200" y="2705040"/>
              <a:ext cx="978120" cy="1371960"/>
            </a:xfrm>
            <a:custGeom>
              <a:avLst/>
              <a:gdLst/>
              <a:ahLst/>
              <a:rect l="0" t="0" r="r" b="b"/>
              <a:pathLst>
                <a:path w="2717" h="3811">
                  <a:moveTo>
                    <a:pt x="2717" y="3811"/>
                  </a:moveTo>
                  <a:lnTo>
                    <a:pt x="2717" y="0"/>
                  </a:lnTo>
                  <a:lnTo>
                    <a:pt x="0" y="0"/>
                  </a:lnTo>
                  <a:lnTo>
                    <a:pt x="0" y="3811"/>
                  </a:lnTo>
                  <a:lnTo>
                    <a:pt x="2717" y="3811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93960" y="1295280"/>
              <a:ext cx="864000" cy="1410120"/>
            </a:xfrm>
            <a:custGeom>
              <a:avLst/>
              <a:gdLst/>
              <a:ahLst/>
              <a:rect l="0" t="0" r="r" b="b"/>
              <a:pathLst>
                <a:path w="2400" h="3917">
                  <a:moveTo>
                    <a:pt x="2400" y="2717"/>
                  </a:moveTo>
                  <a:lnTo>
                    <a:pt x="2400" y="0"/>
                  </a:lnTo>
                  <a:lnTo>
                    <a:pt x="0" y="1200"/>
                  </a:lnTo>
                  <a:lnTo>
                    <a:pt x="0" y="3917"/>
                  </a:lnTo>
                  <a:lnTo>
                    <a:pt x="2400" y="2717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816200" y="1727280"/>
              <a:ext cx="978120" cy="978120"/>
            </a:xfrm>
            <a:custGeom>
              <a:avLst/>
              <a:gdLst/>
              <a:ahLst/>
              <a:rect l="0" t="0" r="r" b="b"/>
              <a:pathLst>
                <a:path w="2717" h="2717">
                  <a:moveTo>
                    <a:pt x="2717" y="2717"/>
                  </a:moveTo>
                  <a:lnTo>
                    <a:pt x="2717" y="0"/>
                  </a:lnTo>
                  <a:lnTo>
                    <a:pt x="0" y="0"/>
                  </a:lnTo>
                  <a:lnTo>
                    <a:pt x="0" y="2717"/>
                  </a:lnTo>
                  <a:lnTo>
                    <a:pt x="2717" y="2717"/>
                  </a:lnTo>
                  <a:close/>
                </a:path>
              </a:pathLst>
            </a:custGeom>
            <a:solidFill>
              <a:srgbClr val="fcf3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816200" y="1295280"/>
              <a:ext cx="1841760" cy="432000"/>
            </a:xfrm>
            <a:custGeom>
              <a:avLst/>
              <a:gdLst/>
              <a:ahLst/>
              <a:rect l="0" t="0" r="r" b="b"/>
              <a:pathLst>
                <a:path w="5116" h="1200">
                  <a:moveTo>
                    <a:pt x="5116" y="0"/>
                  </a:moveTo>
                  <a:lnTo>
                    <a:pt x="2717" y="1200"/>
                  </a:lnTo>
                  <a:lnTo>
                    <a:pt x="0" y="1200"/>
                  </a:lnTo>
                  <a:lnTo>
                    <a:pt x="2363" y="0"/>
                  </a:lnTo>
                  <a:lnTo>
                    <a:pt x="5116" y="0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57800" y="5029200"/>
              <a:ext cx="851400" cy="622800"/>
            </a:xfrm>
            <a:custGeom>
              <a:avLst/>
              <a:gdLst/>
              <a:ahLst/>
              <a:rect l="0" t="0" r="r" b="b"/>
              <a:pathLst>
                <a:path w="2365" h="1730">
                  <a:moveTo>
                    <a:pt x="2365" y="530"/>
                  </a:moveTo>
                  <a:lnTo>
                    <a:pt x="2365" y="0"/>
                  </a:lnTo>
                  <a:lnTo>
                    <a:pt x="0" y="1200"/>
                  </a:lnTo>
                  <a:lnTo>
                    <a:pt x="0" y="1730"/>
                  </a:lnTo>
                  <a:lnTo>
                    <a:pt x="2365" y="530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67080" y="5460840"/>
              <a:ext cx="991080" cy="190800"/>
            </a:xfrm>
            <a:custGeom>
              <a:avLst/>
              <a:gdLst/>
              <a:ahLst/>
              <a:rect l="0" t="0" r="r" b="b"/>
              <a:pathLst>
                <a:path w="2753" h="530">
                  <a:moveTo>
                    <a:pt x="2753" y="530"/>
                  </a:moveTo>
                  <a:lnTo>
                    <a:pt x="2753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2753" y="530"/>
                  </a:lnTo>
                  <a:close/>
                </a:path>
              </a:pathLst>
            </a:custGeom>
            <a:blipFill rotWithShape="0">
              <a:blip r:embed="rId9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57800" y="2666880"/>
              <a:ext cx="851400" cy="2794320"/>
            </a:xfrm>
            <a:custGeom>
              <a:avLst/>
              <a:gdLst/>
              <a:ahLst/>
              <a:rect l="0" t="0" r="r" b="b"/>
              <a:pathLst>
                <a:path w="2365" h="7762">
                  <a:moveTo>
                    <a:pt x="2365" y="6562"/>
                  </a:moveTo>
                  <a:lnTo>
                    <a:pt x="2365" y="0"/>
                  </a:lnTo>
                  <a:lnTo>
                    <a:pt x="0" y="1199"/>
                  </a:lnTo>
                  <a:lnTo>
                    <a:pt x="0" y="7762"/>
                  </a:lnTo>
                  <a:lnTo>
                    <a:pt x="2365" y="6562"/>
                  </a:lnTo>
                  <a:close/>
                </a:path>
              </a:pathLst>
            </a:custGeom>
            <a:blipFill rotWithShape="0">
              <a:blip r:embed="rId10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67080" y="3098880"/>
              <a:ext cx="991080" cy="2362680"/>
            </a:xfrm>
            <a:custGeom>
              <a:avLst/>
              <a:gdLst/>
              <a:ahLst/>
              <a:rect l="0" t="0" r="r" b="b"/>
              <a:pathLst>
                <a:path w="2753" h="6563">
                  <a:moveTo>
                    <a:pt x="2753" y="6563"/>
                  </a:moveTo>
                  <a:lnTo>
                    <a:pt x="2753" y="0"/>
                  </a:lnTo>
                  <a:lnTo>
                    <a:pt x="0" y="0"/>
                  </a:lnTo>
                  <a:lnTo>
                    <a:pt x="0" y="6563"/>
                  </a:lnTo>
                  <a:lnTo>
                    <a:pt x="2753" y="6563"/>
                  </a:lnTo>
                  <a:close/>
                </a:path>
              </a:pathLst>
            </a:custGeom>
            <a:blipFill rotWithShape="0">
              <a:blip r:embed="rId1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57800" y="2273400"/>
              <a:ext cx="851400" cy="825840"/>
            </a:xfrm>
            <a:custGeom>
              <a:avLst/>
              <a:gdLst/>
              <a:ahLst/>
              <a:rect l="0" t="0" r="r" b="b"/>
              <a:pathLst>
                <a:path w="2365" h="2294">
                  <a:moveTo>
                    <a:pt x="2365" y="1093"/>
                  </a:moveTo>
                  <a:lnTo>
                    <a:pt x="2365" y="0"/>
                  </a:lnTo>
                  <a:lnTo>
                    <a:pt x="0" y="1200"/>
                  </a:lnTo>
                  <a:lnTo>
                    <a:pt x="0" y="2294"/>
                  </a:lnTo>
                  <a:lnTo>
                    <a:pt x="2365" y="1093"/>
                  </a:lnTo>
                  <a:close/>
                </a:path>
              </a:pathLst>
            </a:custGeom>
            <a:blipFill rotWithShape="0">
              <a:blip r:embed="rId1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67080" y="2705040"/>
              <a:ext cx="991080" cy="394200"/>
            </a:xfrm>
            <a:custGeom>
              <a:avLst/>
              <a:gdLst/>
              <a:ahLst/>
              <a:rect l="0" t="0" r="r" b="b"/>
              <a:pathLst>
                <a:path w="2753" h="1095">
                  <a:moveTo>
                    <a:pt x="2753" y="1095"/>
                  </a:moveTo>
                  <a:lnTo>
                    <a:pt x="2753" y="0"/>
                  </a:lnTo>
                  <a:lnTo>
                    <a:pt x="0" y="0"/>
                  </a:lnTo>
                  <a:lnTo>
                    <a:pt x="0" y="1095"/>
                  </a:lnTo>
                  <a:lnTo>
                    <a:pt x="2753" y="1095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257800" y="1295280"/>
              <a:ext cx="851400" cy="1410120"/>
            </a:xfrm>
            <a:custGeom>
              <a:avLst/>
              <a:gdLst/>
              <a:ahLst/>
              <a:rect l="0" t="0" r="r" b="b"/>
              <a:pathLst>
                <a:path w="2365" h="3917">
                  <a:moveTo>
                    <a:pt x="2365" y="2717"/>
                  </a:moveTo>
                  <a:lnTo>
                    <a:pt x="2365" y="0"/>
                  </a:lnTo>
                  <a:lnTo>
                    <a:pt x="0" y="1200"/>
                  </a:lnTo>
                  <a:lnTo>
                    <a:pt x="0" y="3917"/>
                  </a:lnTo>
                  <a:lnTo>
                    <a:pt x="2365" y="2717"/>
                  </a:lnTo>
                  <a:close/>
                </a:path>
              </a:pathLst>
            </a:custGeom>
            <a:blipFill rotWithShape="0">
              <a:blip r:embed="rId13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267080" y="1727280"/>
              <a:ext cx="991080" cy="978120"/>
            </a:xfrm>
            <a:custGeom>
              <a:avLst/>
              <a:gdLst/>
              <a:ahLst/>
              <a:rect l="0" t="0" r="r" b="b"/>
              <a:pathLst>
                <a:path w="2753" h="2717">
                  <a:moveTo>
                    <a:pt x="2753" y="2717"/>
                  </a:moveTo>
                  <a:lnTo>
                    <a:pt x="2753" y="0"/>
                  </a:lnTo>
                  <a:lnTo>
                    <a:pt x="0" y="0"/>
                  </a:lnTo>
                  <a:lnTo>
                    <a:pt x="0" y="2717"/>
                  </a:lnTo>
                  <a:lnTo>
                    <a:pt x="2753" y="2717"/>
                  </a:lnTo>
                  <a:close/>
                </a:path>
              </a:pathLst>
            </a:custGeom>
            <a:solidFill>
              <a:srgbClr val="fcf3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67080" y="1295280"/>
              <a:ext cx="1841760" cy="432000"/>
            </a:xfrm>
            <a:custGeom>
              <a:avLst/>
              <a:gdLst/>
              <a:ahLst/>
              <a:rect l="0" t="0" r="r" b="b"/>
              <a:pathLst>
                <a:path w="5116" h="1200">
                  <a:moveTo>
                    <a:pt x="5116" y="0"/>
                  </a:moveTo>
                  <a:lnTo>
                    <a:pt x="2752" y="1200"/>
                  </a:lnTo>
                  <a:lnTo>
                    <a:pt x="0" y="1200"/>
                  </a:lnTo>
                  <a:lnTo>
                    <a:pt x="2398" y="0"/>
                  </a:lnTo>
                  <a:lnTo>
                    <a:pt x="5116" y="0"/>
                  </a:lnTo>
                  <a:close/>
                </a:path>
              </a:pathLst>
            </a:custGeom>
            <a:blipFill rotWithShape="0">
              <a:blip r:embed="rId1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1079640" y="1733400"/>
              <a:ext cx="0" cy="431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1003320" y="6051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1003320" y="5264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1003320" y="4476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1003320" y="3689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1003320" y="2901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1003320" y="2127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404640" y="590220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-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506520" y="511488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506520" y="432756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 txBox="1"/>
            <p:nvPr/>
          </p:nvSpPr>
          <p:spPr>
            <a:xfrm>
              <a:off x="506520" y="354024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506520" y="275436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7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 txBox="1"/>
            <p:nvPr/>
          </p:nvSpPr>
          <p:spPr>
            <a:xfrm>
              <a:off x="506520" y="197964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9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66680" y="6045120"/>
              <a:ext cx="492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9640" y="603252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30520" y="603252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4360" y="603252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 txBox="1"/>
            <p:nvPr/>
          </p:nvSpPr>
          <p:spPr>
            <a:xfrm>
              <a:off x="1979640" y="6143760"/>
              <a:ext cx="588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Ita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 txBox="1"/>
            <p:nvPr/>
          </p:nvSpPr>
          <p:spPr>
            <a:xfrm>
              <a:off x="4479840" y="614376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66680" y="5651640"/>
              <a:ext cx="492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79640" y="563868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30520" y="563868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994360" y="5638680"/>
              <a:ext cx="0" cy="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42000" y="3086280"/>
              <a:ext cx="179064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05720" y="3174840"/>
              <a:ext cx="101520" cy="101520"/>
            </a:xfrm>
            <a:prstGeom prst="rect">
              <a:avLst/>
            </a:prstGeom>
            <a:solidFill>
              <a:srgbClr val="fcf3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 txBox="1"/>
            <p:nvPr/>
          </p:nvSpPr>
          <p:spPr>
            <a:xfrm>
              <a:off x="6778800" y="3084480"/>
              <a:ext cx="1073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Investimen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705720" y="3441600"/>
              <a:ext cx="101520" cy="101520"/>
            </a:xfrm>
            <a:prstGeom prst="rect">
              <a:avLst/>
            </a:prstGeom>
            <a:blipFill rotWithShape="0">
              <a:blip r:embed="rId1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>
              <a:off x="6778800" y="334980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Teleco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05720" y="3708360"/>
              <a:ext cx="101520" cy="101520"/>
            </a:xfrm>
            <a:prstGeom prst="rect">
              <a:avLst/>
            </a:prstGeom>
            <a:blipFill rotWithShape="0">
              <a:blip r:embed="rId16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6778800" y="3616200"/>
              <a:ext cx="874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Person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05720" y="3975120"/>
              <a:ext cx="101520" cy="101520"/>
            </a:xfrm>
            <a:prstGeom prst="rect">
              <a:avLst/>
            </a:prstGeom>
            <a:blipFill rotWithShape="0">
              <a:blip r:embed="rId17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 txBox="1"/>
            <p:nvPr/>
          </p:nvSpPr>
          <p:spPr>
            <a:xfrm>
              <a:off x="6778800" y="3882960"/>
              <a:ext cx="12700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Profitto/perd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6629400" y="1447920"/>
            <a:ext cx="233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y Marino, @i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-3240" y="304920"/>
            <a:ext cx="8766360" cy="6400800"/>
            <a:chOff x="-3240" y="304920"/>
            <a:chExt cx="8766360" cy="6400800"/>
          </a:xfrm>
        </p:grpSpPr>
        <p:sp>
          <p:nvSpPr>
            <p:cNvPr id="102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 txBox="1"/>
            <p:nvPr/>
          </p:nvSpPr>
          <p:spPr>
            <a:xfrm>
              <a:off x="533520" y="304920"/>
              <a:ext cx="82296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cc99"/>
                  </a:solidFill>
                  <a:latin typeface="Arial MT"/>
                  <a:ea typeface="Arial MT"/>
                </a:rPr>
                <a:t>Il budget dell’utente residenzi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60600" y="5334120"/>
              <a:ext cx="5600880" cy="805320"/>
            </a:xfrm>
            <a:custGeom>
              <a:avLst/>
              <a:gdLst/>
              <a:ahLst/>
              <a:rect l="0" t="0" r="r" b="b"/>
              <a:pathLst>
                <a:path w="15558" h="2237">
                  <a:moveTo>
                    <a:pt x="15558" y="0"/>
                  </a:moveTo>
                  <a:lnTo>
                    <a:pt x="13269" y="2237"/>
                  </a:lnTo>
                  <a:lnTo>
                    <a:pt x="0" y="2237"/>
                  </a:lnTo>
                  <a:lnTo>
                    <a:pt x="2288" y="0"/>
                  </a:lnTo>
                  <a:lnTo>
                    <a:pt x="15558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60600" y="1225440"/>
              <a:ext cx="813240" cy="4913640"/>
            </a:xfrm>
            <a:custGeom>
              <a:avLst/>
              <a:gdLst/>
              <a:ahLst/>
              <a:rect l="0" t="0" r="r" b="b"/>
              <a:pathLst>
                <a:path w="2259" h="13649">
                  <a:moveTo>
                    <a:pt x="0" y="13649"/>
                  </a:moveTo>
                  <a:lnTo>
                    <a:pt x="0" y="2266"/>
                  </a:lnTo>
                  <a:lnTo>
                    <a:pt x="2259" y="0"/>
                  </a:lnTo>
                  <a:lnTo>
                    <a:pt x="2259" y="11382"/>
                  </a:lnTo>
                  <a:lnTo>
                    <a:pt x="0" y="136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86080" y="1225440"/>
              <a:ext cx="4775400" cy="4096080"/>
            </a:xfrm>
            <a:custGeom>
              <a:avLst/>
              <a:gdLst/>
              <a:ahLst/>
              <a:rect l="0" t="0" r="r" b="b"/>
              <a:pathLst>
                <a:path w="13265" h="11378">
                  <a:moveTo>
                    <a:pt x="0" y="11378"/>
                  </a:moveTo>
                  <a:lnTo>
                    <a:pt x="0" y="0"/>
                  </a:lnTo>
                  <a:lnTo>
                    <a:pt x="13265" y="0"/>
                  </a:lnTo>
                  <a:lnTo>
                    <a:pt x="13265" y="11378"/>
                  </a:lnTo>
                  <a:lnTo>
                    <a:pt x="0" y="1137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560600" y="5334120"/>
              <a:ext cx="5613840" cy="817920"/>
            </a:xfrm>
            <a:custGeom>
              <a:avLst/>
              <a:gdLst/>
              <a:ahLst/>
              <a:rect l="0" t="0" r="r" b="b"/>
              <a:pathLst>
                <a:path fill="none" w="15594" h="2272">
                  <a:moveTo>
                    <a:pt x="15594" y="0"/>
                  </a:moveTo>
                  <a:lnTo>
                    <a:pt x="13301" y="2272"/>
                  </a:lnTo>
                  <a:lnTo>
                    <a:pt x="0" y="2272"/>
                  </a:lnTo>
                  <a:lnTo>
                    <a:pt x="229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60600" y="1225440"/>
              <a:ext cx="825840" cy="4926240"/>
            </a:xfrm>
            <a:custGeom>
              <a:avLst/>
              <a:gdLst/>
              <a:ahLst/>
              <a:rect l="0" t="0" r="r" b="b"/>
              <a:pathLst>
                <a:path fill="none" w="2294" h="13684">
                  <a:moveTo>
                    <a:pt x="0" y="13684"/>
                  </a:moveTo>
                  <a:lnTo>
                    <a:pt x="0" y="2271"/>
                  </a:lnTo>
                  <a:lnTo>
                    <a:pt x="2294" y="0"/>
                  </a:lnTo>
                  <a:lnTo>
                    <a:pt x="2294" y="11413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386080" y="1225440"/>
              <a:ext cx="4788360" cy="4108680"/>
            </a:xfrm>
            <a:custGeom>
              <a:avLst/>
              <a:gdLst/>
              <a:ahLst/>
              <a:rect l="0" t="0" r="r" b="b"/>
              <a:pathLst>
                <a:path fill="none" w="13301" h="11413">
                  <a:moveTo>
                    <a:pt x="0" y="11413"/>
                  </a:moveTo>
                  <a:lnTo>
                    <a:pt x="0" y="0"/>
                  </a:lnTo>
                  <a:lnTo>
                    <a:pt x="13301" y="0"/>
                  </a:lnTo>
                  <a:lnTo>
                    <a:pt x="13301" y="11413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60600" y="6157800"/>
              <a:ext cx="47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6720" y="615168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54600" y="615168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720" y="615168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 txBox="1"/>
            <p:nvPr/>
          </p:nvSpPr>
          <p:spPr>
            <a:xfrm>
              <a:off x="2428920" y="624672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Ita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 txBox="1"/>
            <p:nvPr/>
          </p:nvSpPr>
          <p:spPr>
            <a:xfrm>
              <a:off x="4878360" y="624672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36760" y="4579920"/>
              <a:ext cx="825840" cy="1572120"/>
            </a:xfrm>
            <a:custGeom>
              <a:avLst/>
              <a:gdLst/>
              <a:ahLst/>
              <a:rect l="0" t="0" r="r" b="b"/>
              <a:pathLst>
                <a:path w="2294" h="4367">
                  <a:moveTo>
                    <a:pt x="2294" y="2095"/>
                  </a:moveTo>
                  <a:lnTo>
                    <a:pt x="2294" y="0"/>
                  </a:lnTo>
                  <a:lnTo>
                    <a:pt x="0" y="2267"/>
                  </a:lnTo>
                  <a:lnTo>
                    <a:pt x="0" y="4367"/>
                  </a:lnTo>
                  <a:lnTo>
                    <a:pt x="2294" y="2095"/>
                  </a:lnTo>
                  <a:close/>
                </a:path>
              </a:pathLst>
            </a:custGeom>
            <a:solidFill>
              <a:srgbClr val="00320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271600" y="5396040"/>
              <a:ext cx="965520" cy="756000"/>
            </a:xfrm>
            <a:custGeom>
              <a:avLst/>
              <a:gdLst/>
              <a:ahLst/>
              <a:rect l="0" t="0" r="r" b="b"/>
              <a:pathLst>
                <a:path w="2682" h="2100">
                  <a:moveTo>
                    <a:pt x="2682" y="2100"/>
                  </a:moveTo>
                  <a:lnTo>
                    <a:pt x="2682" y="0"/>
                  </a:lnTo>
                  <a:lnTo>
                    <a:pt x="0" y="0"/>
                  </a:lnTo>
                  <a:lnTo>
                    <a:pt x="0" y="2100"/>
                  </a:lnTo>
                  <a:lnTo>
                    <a:pt x="2682" y="2100"/>
                  </a:lnTo>
                  <a:close/>
                </a:path>
              </a:pathLst>
            </a:custGeom>
            <a:solidFill>
              <a:srgbClr val="00641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36760" y="1844640"/>
              <a:ext cx="825840" cy="3551760"/>
            </a:xfrm>
            <a:custGeom>
              <a:avLst/>
              <a:gdLst/>
              <a:ahLst/>
              <a:rect l="0" t="0" r="r" b="b"/>
              <a:pathLst>
                <a:path w="2294" h="9866">
                  <a:moveTo>
                    <a:pt x="2294" y="7599"/>
                  </a:moveTo>
                  <a:lnTo>
                    <a:pt x="2294" y="0"/>
                  </a:lnTo>
                  <a:lnTo>
                    <a:pt x="0" y="2266"/>
                  </a:lnTo>
                  <a:lnTo>
                    <a:pt x="0" y="9866"/>
                  </a:lnTo>
                  <a:lnTo>
                    <a:pt x="2294" y="7599"/>
                  </a:lnTo>
                  <a:close/>
                </a:path>
              </a:pathLst>
            </a:custGeom>
            <a:solidFill>
              <a:srgbClr val="48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71600" y="2660760"/>
              <a:ext cx="965520" cy="2735640"/>
            </a:xfrm>
            <a:custGeom>
              <a:avLst/>
              <a:gdLst/>
              <a:ahLst/>
              <a:rect l="0" t="0" r="r" b="b"/>
              <a:pathLst>
                <a:path w="2682" h="7599">
                  <a:moveTo>
                    <a:pt x="2682" y="7599"/>
                  </a:moveTo>
                  <a:lnTo>
                    <a:pt x="2682" y="0"/>
                  </a:lnTo>
                  <a:lnTo>
                    <a:pt x="0" y="0"/>
                  </a:lnTo>
                  <a:lnTo>
                    <a:pt x="0" y="7599"/>
                  </a:lnTo>
                  <a:lnTo>
                    <a:pt x="2682" y="7599"/>
                  </a:lnTo>
                  <a:close/>
                </a:path>
              </a:pathLst>
            </a:custGeom>
            <a:solidFill>
              <a:srgbClr val="9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71600" y="1844640"/>
              <a:ext cx="1791000" cy="816480"/>
            </a:xfrm>
            <a:custGeom>
              <a:avLst/>
              <a:gdLst/>
              <a:ahLst/>
              <a:rect l="0" t="0" r="r" b="b"/>
              <a:pathLst>
                <a:path w="4975" h="2268">
                  <a:moveTo>
                    <a:pt x="4975" y="0"/>
                  </a:moveTo>
                  <a:lnTo>
                    <a:pt x="2682" y="2268"/>
                  </a:lnTo>
                  <a:lnTo>
                    <a:pt x="0" y="2268"/>
                  </a:lnTo>
                  <a:lnTo>
                    <a:pt x="2328" y="0"/>
                  </a:lnTo>
                  <a:lnTo>
                    <a:pt x="4975" y="0"/>
                  </a:lnTo>
                  <a:close/>
                </a:path>
              </a:pathLst>
            </a:custGeom>
            <a:solidFill>
              <a:srgbClr val="6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4640" y="3973680"/>
              <a:ext cx="838440" cy="2178360"/>
            </a:xfrm>
            <a:custGeom>
              <a:avLst/>
              <a:gdLst/>
              <a:ahLst/>
              <a:rect l="0" t="0" r="r" b="b"/>
              <a:pathLst>
                <a:path w="2329" h="6051">
                  <a:moveTo>
                    <a:pt x="2329" y="3780"/>
                  </a:moveTo>
                  <a:lnTo>
                    <a:pt x="2329" y="0"/>
                  </a:lnTo>
                  <a:lnTo>
                    <a:pt x="0" y="2231"/>
                  </a:lnTo>
                  <a:lnTo>
                    <a:pt x="0" y="6051"/>
                  </a:lnTo>
                  <a:lnTo>
                    <a:pt x="2329" y="3780"/>
                  </a:lnTo>
                  <a:close/>
                </a:path>
              </a:pathLst>
            </a:custGeom>
            <a:solidFill>
              <a:srgbClr val="00320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72080" y="4776840"/>
              <a:ext cx="952920" cy="1375200"/>
            </a:xfrm>
            <a:custGeom>
              <a:avLst/>
              <a:gdLst/>
              <a:ahLst/>
              <a:rect l="0" t="0" r="r" b="b"/>
              <a:pathLst>
                <a:path w="2647" h="3820">
                  <a:moveTo>
                    <a:pt x="2647" y="3820"/>
                  </a:moveTo>
                  <a:lnTo>
                    <a:pt x="2647" y="0"/>
                  </a:lnTo>
                  <a:lnTo>
                    <a:pt x="0" y="0"/>
                  </a:lnTo>
                  <a:lnTo>
                    <a:pt x="0" y="3820"/>
                  </a:lnTo>
                  <a:lnTo>
                    <a:pt x="2647" y="3820"/>
                  </a:lnTo>
                  <a:close/>
                </a:path>
              </a:pathLst>
            </a:custGeom>
            <a:solidFill>
              <a:srgbClr val="00641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4640" y="3143160"/>
              <a:ext cx="838440" cy="1634040"/>
            </a:xfrm>
            <a:custGeom>
              <a:avLst/>
              <a:gdLst/>
              <a:ahLst/>
              <a:rect l="0" t="0" r="r" b="b"/>
              <a:pathLst>
                <a:path w="2329" h="4539">
                  <a:moveTo>
                    <a:pt x="2329" y="2307"/>
                  </a:moveTo>
                  <a:lnTo>
                    <a:pt x="2329" y="0"/>
                  </a:lnTo>
                  <a:lnTo>
                    <a:pt x="0" y="2272"/>
                  </a:lnTo>
                  <a:lnTo>
                    <a:pt x="0" y="4539"/>
                  </a:lnTo>
                  <a:lnTo>
                    <a:pt x="2329" y="2307"/>
                  </a:lnTo>
                  <a:close/>
                </a:path>
              </a:pathLst>
            </a:custGeom>
            <a:solidFill>
              <a:srgbClr val="48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72080" y="3960720"/>
              <a:ext cx="952920" cy="816480"/>
            </a:xfrm>
            <a:custGeom>
              <a:avLst/>
              <a:gdLst/>
              <a:ahLst/>
              <a:rect l="0" t="0" r="r" b="b"/>
              <a:pathLst>
                <a:path w="2647" h="2268">
                  <a:moveTo>
                    <a:pt x="2647" y="2268"/>
                  </a:moveTo>
                  <a:lnTo>
                    <a:pt x="2647" y="0"/>
                  </a:lnTo>
                  <a:lnTo>
                    <a:pt x="0" y="0"/>
                  </a:lnTo>
                  <a:lnTo>
                    <a:pt x="0" y="2268"/>
                  </a:lnTo>
                  <a:lnTo>
                    <a:pt x="2647" y="2268"/>
                  </a:lnTo>
                  <a:close/>
                </a:path>
              </a:pathLst>
            </a:custGeom>
            <a:solidFill>
              <a:srgbClr val="9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72080" y="3143160"/>
              <a:ext cx="1791000" cy="817920"/>
            </a:xfrm>
            <a:custGeom>
              <a:avLst/>
              <a:gdLst/>
              <a:ahLst/>
              <a:rect l="0" t="0" r="r" b="b"/>
              <a:pathLst>
                <a:path w="4975" h="2272">
                  <a:moveTo>
                    <a:pt x="4975" y="0"/>
                  </a:moveTo>
                  <a:lnTo>
                    <a:pt x="2646" y="2272"/>
                  </a:lnTo>
                  <a:lnTo>
                    <a:pt x="0" y="2272"/>
                  </a:lnTo>
                  <a:lnTo>
                    <a:pt x="2293" y="0"/>
                  </a:lnTo>
                  <a:lnTo>
                    <a:pt x="4975" y="0"/>
                  </a:lnTo>
                  <a:close/>
                </a:path>
              </a:pathLst>
            </a:custGeom>
            <a:solidFill>
              <a:srgbClr val="6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1560600" y="2049480"/>
              <a:ext cx="0" cy="4108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1484280" y="61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1484280" y="546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1484280" y="4782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1484280" y="41036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1484280" y="3409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1484280" y="2728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1484280" y="20494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 txBox="1"/>
            <p:nvPr/>
          </p:nvSpPr>
          <p:spPr>
            <a:xfrm>
              <a:off x="1247760" y="6012000"/>
              <a:ext cx="272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 txBox="1"/>
            <p:nvPr/>
          </p:nvSpPr>
          <p:spPr>
            <a:xfrm>
              <a:off x="1133640" y="5318280"/>
              <a:ext cx="36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>
              <a:off x="1133640" y="4638600"/>
              <a:ext cx="36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1133640" y="3957480"/>
              <a:ext cx="36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 txBox="1"/>
            <p:nvPr/>
          </p:nvSpPr>
          <p:spPr>
            <a:xfrm>
              <a:off x="1133640" y="3265560"/>
              <a:ext cx="36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 txBox="1"/>
            <p:nvPr/>
          </p:nvSpPr>
          <p:spPr>
            <a:xfrm>
              <a:off x="1133640" y="2585880"/>
              <a:ext cx="36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1133640" y="1905120"/>
              <a:ext cx="36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-3240" y="4073400"/>
              <a:ext cx="1754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Costo mensile (US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60600" y="6157800"/>
              <a:ext cx="47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66720" y="615168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54600" y="615168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54720" y="615168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 txBox="1"/>
            <p:nvPr/>
          </p:nvSpPr>
          <p:spPr>
            <a:xfrm>
              <a:off x="2428920" y="6246720"/>
              <a:ext cx="588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Ita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4878360" y="624672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84680" y="1371600"/>
              <a:ext cx="180324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61000" y="1461960"/>
              <a:ext cx="101520" cy="100080"/>
            </a:xfrm>
            <a:prstGeom prst="rect">
              <a:avLst/>
            </a:prstGeom>
            <a:solidFill>
              <a:srgbClr val="9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4840200" y="1373040"/>
              <a:ext cx="153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Servizio telefon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61000" y="1708200"/>
              <a:ext cx="101520" cy="98280"/>
            </a:xfrm>
            <a:prstGeom prst="rect">
              <a:avLst/>
            </a:prstGeom>
            <a:solidFill>
              <a:srgbClr val="00641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4840200" y="1620720"/>
              <a:ext cx="1077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Servizio I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240" y="1523880"/>
            <a:ext cx="78678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6440" y="1889280"/>
            <a:ext cx="221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C stand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76360" y="3900600"/>
            <a:ext cx="1495440" cy="671400"/>
            <a:chOff x="1476360" y="3900600"/>
            <a:chExt cx="1495440" cy="671400"/>
          </a:xfrm>
        </p:grpSpPr>
        <p:sp>
          <p:nvSpPr>
            <p:cNvPr id="49" name=""/>
            <p:cNvSpPr/>
            <p:nvPr/>
          </p:nvSpPr>
          <p:spPr>
            <a:xfrm>
              <a:off x="14875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63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604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112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383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542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70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37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081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907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748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716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398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90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459160" y="4195800"/>
              <a:ext cx="358560" cy="52560"/>
              <a:chOff x="2459160" y="4195800"/>
              <a:chExt cx="358560" cy="52560"/>
            </a:xfrm>
          </p:grpSpPr>
          <p:sp>
            <p:nvSpPr>
              <p:cNvPr id="64" name=""/>
              <p:cNvSpPr/>
              <p:nvPr/>
            </p:nvSpPr>
            <p:spPr>
              <a:xfrm>
                <a:off x="24591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84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08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535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563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90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17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43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93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20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49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76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01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9400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718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305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986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416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859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209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628640" y="4267080"/>
              <a:ext cx="208080" cy="92160"/>
              <a:chOff x="1628640" y="4267080"/>
              <a:chExt cx="208080" cy="92160"/>
            </a:xfrm>
          </p:grpSpPr>
          <p:sp>
            <p:nvSpPr>
              <p:cNvPr id="86" name=""/>
              <p:cNvSpPr/>
              <p:nvPr/>
            </p:nvSpPr>
            <p:spPr>
              <a:xfrm>
                <a:off x="16286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668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049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366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48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144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748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8144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62120" y="3657600"/>
            <a:ext cx="0" cy="7621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419720"/>
            <a:ext cx="6858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27160" y="5394240"/>
            <a:ext cx="108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1296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8760" y="2438280"/>
            <a:ext cx="1365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440" y="1889280"/>
            <a:ext cx="221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C stand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76360" y="3900600"/>
            <a:ext cx="1495440" cy="671400"/>
            <a:chOff x="1476360" y="3900600"/>
            <a:chExt cx="1495440" cy="671400"/>
          </a:xfrm>
        </p:grpSpPr>
        <p:sp>
          <p:nvSpPr>
            <p:cNvPr id="105" name=""/>
            <p:cNvSpPr/>
            <p:nvPr/>
          </p:nvSpPr>
          <p:spPr>
            <a:xfrm>
              <a:off x="14875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63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04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12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83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42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970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37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81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07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48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716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98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90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459160" y="4195800"/>
              <a:ext cx="358560" cy="52560"/>
              <a:chOff x="2459160" y="4195800"/>
              <a:chExt cx="358560" cy="52560"/>
            </a:xfrm>
          </p:grpSpPr>
          <p:sp>
            <p:nvSpPr>
              <p:cNvPr id="120" name=""/>
              <p:cNvSpPr/>
              <p:nvPr/>
            </p:nvSpPr>
            <p:spPr>
              <a:xfrm>
                <a:off x="24591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84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08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35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63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90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17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43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7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93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20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49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76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801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9400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718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305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986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16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859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09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628640" y="4267080"/>
              <a:ext cx="208080" cy="92160"/>
              <a:chOff x="1628640" y="4267080"/>
              <a:chExt cx="208080" cy="92160"/>
            </a:xfrm>
          </p:grpSpPr>
          <p:sp>
            <p:nvSpPr>
              <p:cNvPr id="142" name=""/>
              <p:cNvSpPr/>
              <p:nvPr/>
            </p:nvSpPr>
            <p:spPr>
              <a:xfrm>
                <a:off x="16286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668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049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7366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48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144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748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144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762120" y="3657600"/>
            <a:ext cx="0" cy="7621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419720"/>
            <a:ext cx="6858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419720"/>
            <a:ext cx="22860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18148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5181480"/>
            <a:ext cx="21337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27160" y="5394240"/>
            <a:ext cx="108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5440" y="5394240"/>
            <a:ext cx="132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81296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5440" y="3405240"/>
            <a:ext cx="133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u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4267080"/>
            <a:ext cx="152280" cy="380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2670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8760" y="2438280"/>
            <a:ext cx="1365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6440" y="1889280"/>
            <a:ext cx="221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C stand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76360" y="3900600"/>
            <a:ext cx="1495440" cy="671400"/>
            <a:chOff x="1476360" y="3900600"/>
            <a:chExt cx="1495440" cy="671400"/>
          </a:xfrm>
        </p:grpSpPr>
        <p:sp>
          <p:nvSpPr>
            <p:cNvPr id="171" name=""/>
            <p:cNvSpPr/>
            <p:nvPr/>
          </p:nvSpPr>
          <p:spPr>
            <a:xfrm>
              <a:off x="14875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604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112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383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542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970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37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81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907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748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716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398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590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459160" y="4195800"/>
              <a:ext cx="358560" cy="52560"/>
              <a:chOff x="2459160" y="4195800"/>
              <a:chExt cx="358560" cy="52560"/>
            </a:xfrm>
          </p:grpSpPr>
          <p:sp>
            <p:nvSpPr>
              <p:cNvPr id="186" name=""/>
              <p:cNvSpPr/>
              <p:nvPr/>
            </p:nvSpPr>
            <p:spPr>
              <a:xfrm>
                <a:off x="24591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4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508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35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63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90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17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43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7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93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20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749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776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01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9400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718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305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986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16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859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209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1628640" y="4267080"/>
              <a:ext cx="208080" cy="92160"/>
              <a:chOff x="1628640" y="4267080"/>
              <a:chExt cx="208080" cy="92160"/>
            </a:xfrm>
          </p:grpSpPr>
          <p:sp>
            <p:nvSpPr>
              <p:cNvPr id="208" name=""/>
              <p:cNvSpPr/>
              <p:nvPr/>
            </p:nvSpPr>
            <p:spPr>
              <a:xfrm>
                <a:off x="16286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6668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049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366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748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144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748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144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762120" y="3657600"/>
            <a:ext cx="0" cy="7621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19720"/>
            <a:ext cx="6858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62560" y="3900600"/>
            <a:ext cx="1495440" cy="671400"/>
            <a:chOff x="5362560" y="3900600"/>
            <a:chExt cx="1495440" cy="671400"/>
          </a:xfrm>
        </p:grpSpPr>
        <p:sp>
          <p:nvSpPr>
            <p:cNvPr id="219" name=""/>
            <p:cNvSpPr/>
            <p:nvPr/>
          </p:nvSpPr>
          <p:spPr>
            <a:xfrm>
              <a:off x="53737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625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466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974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245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404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832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499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43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769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610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578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260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452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345360" y="4195800"/>
              <a:ext cx="358560" cy="52560"/>
              <a:chOff x="6345360" y="4195800"/>
              <a:chExt cx="358560" cy="52560"/>
            </a:xfrm>
          </p:grpSpPr>
          <p:sp>
            <p:nvSpPr>
              <p:cNvPr id="234" name=""/>
              <p:cNvSpPr/>
              <p:nvPr/>
            </p:nvSpPr>
            <p:spPr>
              <a:xfrm>
                <a:off x="6345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705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943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4213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5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77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04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293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563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80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07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35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662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88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8262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580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67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848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278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721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071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514840" y="4267080"/>
              <a:ext cx="208080" cy="92160"/>
              <a:chOff x="5514840" y="4267080"/>
              <a:chExt cx="208080" cy="92160"/>
            </a:xfrm>
          </p:grpSpPr>
          <p:sp>
            <p:nvSpPr>
              <p:cNvPr id="256" name=""/>
              <p:cNvSpPr/>
              <p:nvPr/>
            </p:nvSpPr>
            <p:spPr>
              <a:xfrm>
                <a:off x="55148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530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911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228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610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06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6610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006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3048120" y="4419720"/>
            <a:ext cx="22860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72200" y="3352680"/>
            <a:ext cx="0" cy="5335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3352680"/>
            <a:ext cx="220968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518148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81480"/>
            <a:ext cx="21337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5181480"/>
            <a:ext cx="30481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27160" y="5394240"/>
            <a:ext cx="108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565440" y="5394240"/>
            <a:ext cx="132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80040" y="5394240"/>
            <a:ext cx="136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1296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3268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565440" y="3405240"/>
            <a:ext cx="133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u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4267080"/>
            <a:ext cx="152280" cy="380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2670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8760" y="2438280"/>
            <a:ext cx="1365120" cy="1224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108240" y="1584360"/>
            <a:ext cx="2158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x 288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1981080"/>
            <a:ext cx="1523880" cy="1447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666880" y="1981080"/>
            <a:ext cx="1524240" cy="1447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1120" y="19810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858000" y="1193760"/>
            <a:ext cx="1295280" cy="1854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36440" y="1889280"/>
            <a:ext cx="221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C stand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76360" y="3900600"/>
            <a:ext cx="1495440" cy="671400"/>
            <a:chOff x="1476360" y="3900600"/>
            <a:chExt cx="1495440" cy="671400"/>
          </a:xfrm>
        </p:grpSpPr>
        <p:sp>
          <p:nvSpPr>
            <p:cNvPr id="293" name=""/>
            <p:cNvSpPr/>
            <p:nvPr/>
          </p:nvSpPr>
          <p:spPr>
            <a:xfrm>
              <a:off x="14875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763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604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112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383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542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970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37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081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907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748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716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398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90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2459160" y="4195800"/>
              <a:ext cx="358560" cy="52560"/>
              <a:chOff x="2459160" y="4195800"/>
              <a:chExt cx="358560" cy="52560"/>
            </a:xfrm>
          </p:grpSpPr>
          <p:sp>
            <p:nvSpPr>
              <p:cNvPr id="308" name=""/>
              <p:cNvSpPr/>
              <p:nvPr/>
            </p:nvSpPr>
            <p:spPr>
              <a:xfrm>
                <a:off x="24591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484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08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535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563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90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17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43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7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93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20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49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76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01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9400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718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305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986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416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859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209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628640" y="4267080"/>
              <a:ext cx="208080" cy="92160"/>
              <a:chOff x="1628640" y="4267080"/>
              <a:chExt cx="208080" cy="92160"/>
            </a:xfrm>
          </p:grpSpPr>
          <p:sp>
            <p:nvSpPr>
              <p:cNvPr id="330" name=""/>
              <p:cNvSpPr/>
              <p:nvPr/>
            </p:nvSpPr>
            <p:spPr>
              <a:xfrm>
                <a:off x="16286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668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049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366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748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8144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748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144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762120" y="3657600"/>
            <a:ext cx="0" cy="7621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4419720"/>
            <a:ext cx="6858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362560" y="3900600"/>
            <a:ext cx="1495440" cy="671400"/>
            <a:chOff x="5362560" y="3900600"/>
            <a:chExt cx="1495440" cy="671400"/>
          </a:xfrm>
        </p:grpSpPr>
        <p:sp>
          <p:nvSpPr>
            <p:cNvPr id="341" name=""/>
            <p:cNvSpPr/>
            <p:nvPr/>
          </p:nvSpPr>
          <p:spPr>
            <a:xfrm>
              <a:off x="53737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625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466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974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245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404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832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99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943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769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610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578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260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452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345360" y="4195800"/>
              <a:ext cx="358560" cy="52560"/>
              <a:chOff x="6345360" y="4195800"/>
              <a:chExt cx="358560" cy="52560"/>
            </a:xfrm>
          </p:grpSpPr>
          <p:sp>
            <p:nvSpPr>
              <p:cNvPr id="356" name=""/>
              <p:cNvSpPr/>
              <p:nvPr/>
            </p:nvSpPr>
            <p:spPr>
              <a:xfrm>
                <a:off x="6345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705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943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213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45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77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504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293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63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580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07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35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62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88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8262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580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167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848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278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721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071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514840" y="4267080"/>
              <a:ext cx="208080" cy="92160"/>
              <a:chOff x="5514840" y="4267080"/>
              <a:chExt cx="208080" cy="92160"/>
            </a:xfrm>
          </p:grpSpPr>
          <p:sp>
            <p:nvSpPr>
              <p:cNvPr id="378" name=""/>
              <p:cNvSpPr/>
              <p:nvPr/>
            </p:nvSpPr>
            <p:spPr>
              <a:xfrm>
                <a:off x="55148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530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911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228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610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006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610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7006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896080" y="1436760"/>
            <a:ext cx="873000" cy="1535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048120" y="4419720"/>
            <a:ext cx="22860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08760" y="1355760"/>
            <a:ext cx="116676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g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2971800"/>
            <a:ext cx="0" cy="91440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2200" y="3352680"/>
            <a:ext cx="220968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518148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5181480"/>
            <a:ext cx="21337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5181480"/>
            <a:ext cx="30481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127160" y="5394240"/>
            <a:ext cx="108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565440" y="5394240"/>
            <a:ext cx="132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80040" y="5394240"/>
            <a:ext cx="136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81296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23268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565440" y="3405240"/>
            <a:ext cx="133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u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4267080"/>
            <a:ext cx="152280" cy="380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2670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158760" y="2438280"/>
            <a:ext cx="1365120" cy="1224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108240" y="1584360"/>
            <a:ext cx="2158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x 288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1981080"/>
            <a:ext cx="1523880" cy="1447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666880" y="1981080"/>
            <a:ext cx="1524240" cy="1447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91120" y="19810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476360" y="3900600"/>
            <a:ext cx="1495440" cy="671400"/>
            <a:chOff x="1476360" y="3900600"/>
            <a:chExt cx="1495440" cy="671400"/>
          </a:xfrm>
        </p:grpSpPr>
        <p:sp>
          <p:nvSpPr>
            <p:cNvPr id="415" name=""/>
            <p:cNvSpPr/>
            <p:nvPr/>
          </p:nvSpPr>
          <p:spPr>
            <a:xfrm>
              <a:off x="14875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763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604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112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383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542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970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637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081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907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748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16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98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590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459160" y="4195800"/>
              <a:ext cx="358560" cy="52560"/>
              <a:chOff x="2459160" y="4195800"/>
              <a:chExt cx="358560" cy="52560"/>
            </a:xfrm>
          </p:grpSpPr>
          <p:sp>
            <p:nvSpPr>
              <p:cNvPr id="430" name=""/>
              <p:cNvSpPr/>
              <p:nvPr/>
            </p:nvSpPr>
            <p:spPr>
              <a:xfrm>
                <a:off x="24591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08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35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63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90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7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43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7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93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20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49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76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801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9400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718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305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986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416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59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209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1628640" y="4267080"/>
              <a:ext cx="208080" cy="92160"/>
              <a:chOff x="1628640" y="4267080"/>
              <a:chExt cx="208080" cy="92160"/>
            </a:xfrm>
          </p:grpSpPr>
          <p:sp>
            <p:nvSpPr>
              <p:cNvPr id="452" name=""/>
              <p:cNvSpPr/>
              <p:nvPr/>
            </p:nvSpPr>
            <p:spPr>
              <a:xfrm>
                <a:off x="16286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668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049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366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748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144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748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8144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762120" y="3200400"/>
            <a:ext cx="0" cy="12193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4419720"/>
            <a:ext cx="6858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518148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27160" y="5394240"/>
            <a:ext cx="108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81296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24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9968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82440" y="175248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2292480" y="1752480"/>
            <a:ext cx="831960" cy="7462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280" y="1600200"/>
            <a:ext cx="335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905120" y="380880"/>
            <a:ext cx="1508040" cy="1066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8088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948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7160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13716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74320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16002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6"/>
          <a:stretch/>
        </p:blipFill>
        <p:spPr>
          <a:xfrm>
            <a:off x="595440" y="2739960"/>
            <a:ext cx="1843200" cy="5716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746280" y="3328920"/>
            <a:ext cx="85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476360" y="3900600"/>
            <a:ext cx="1495440" cy="671400"/>
            <a:chOff x="1476360" y="3900600"/>
            <a:chExt cx="1495440" cy="671400"/>
          </a:xfrm>
        </p:grpSpPr>
        <p:sp>
          <p:nvSpPr>
            <p:cNvPr id="484" name=""/>
            <p:cNvSpPr/>
            <p:nvPr/>
          </p:nvSpPr>
          <p:spPr>
            <a:xfrm>
              <a:off x="14875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763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604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112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383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542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70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37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081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907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748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716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398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90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2459160" y="4195800"/>
              <a:ext cx="358560" cy="52560"/>
              <a:chOff x="2459160" y="4195800"/>
              <a:chExt cx="358560" cy="52560"/>
            </a:xfrm>
          </p:grpSpPr>
          <p:sp>
            <p:nvSpPr>
              <p:cNvPr id="499" name=""/>
              <p:cNvSpPr/>
              <p:nvPr/>
            </p:nvSpPr>
            <p:spPr>
              <a:xfrm>
                <a:off x="24591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484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08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535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63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90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617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643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7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93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20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49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76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01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19400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718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305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986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416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859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09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628640" y="4267080"/>
              <a:ext cx="208080" cy="92160"/>
              <a:chOff x="1628640" y="4267080"/>
              <a:chExt cx="208080" cy="92160"/>
            </a:xfrm>
          </p:grpSpPr>
          <p:sp>
            <p:nvSpPr>
              <p:cNvPr id="521" name=""/>
              <p:cNvSpPr/>
              <p:nvPr/>
            </p:nvSpPr>
            <p:spPr>
              <a:xfrm>
                <a:off x="16286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668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7049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366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48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144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7748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144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762120" y="3200400"/>
            <a:ext cx="0" cy="12193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62120" y="4419720"/>
            <a:ext cx="6858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4419720"/>
            <a:ext cx="22860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518148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24080" y="5181480"/>
            <a:ext cx="21337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127160" y="5394240"/>
            <a:ext cx="108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565440" y="5394240"/>
            <a:ext cx="132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81296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24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9968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82440" y="175248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2292480" y="1752480"/>
            <a:ext cx="831960" cy="7462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52280" y="1600200"/>
            <a:ext cx="335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1905120" y="380880"/>
            <a:ext cx="1508040" cy="10666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38088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0948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7160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76720" y="13716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74320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23880" y="16002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595440" y="2739960"/>
            <a:ext cx="1843200" cy="5716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746280" y="3328920"/>
            <a:ext cx="85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544920" y="2376360"/>
            <a:ext cx="1131840" cy="14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4191120"/>
            <a:ext cx="304920" cy="457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038480" y="3962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8229600" y="609480"/>
            <a:ext cx="228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546880" y="517680"/>
            <a:ext cx="26305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et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914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476360" y="3900600"/>
            <a:ext cx="1495440" cy="671400"/>
            <a:chOff x="1476360" y="3900600"/>
            <a:chExt cx="1495440" cy="671400"/>
          </a:xfrm>
        </p:grpSpPr>
        <p:sp>
          <p:nvSpPr>
            <p:cNvPr id="564" name=""/>
            <p:cNvSpPr/>
            <p:nvPr/>
          </p:nvSpPr>
          <p:spPr>
            <a:xfrm>
              <a:off x="14875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763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604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112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83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542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70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637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081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907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48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716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398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590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2459160" y="4195800"/>
              <a:ext cx="358560" cy="52560"/>
              <a:chOff x="2459160" y="4195800"/>
              <a:chExt cx="358560" cy="52560"/>
            </a:xfrm>
          </p:grpSpPr>
          <p:sp>
            <p:nvSpPr>
              <p:cNvPr id="579" name=""/>
              <p:cNvSpPr/>
              <p:nvPr/>
            </p:nvSpPr>
            <p:spPr>
              <a:xfrm>
                <a:off x="24591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84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08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5351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63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590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179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643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7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93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720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749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766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01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19400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718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305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986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416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859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209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1628640" y="4267080"/>
              <a:ext cx="208080" cy="92160"/>
              <a:chOff x="1628640" y="4267080"/>
              <a:chExt cx="208080" cy="92160"/>
            </a:xfrm>
          </p:grpSpPr>
          <p:sp>
            <p:nvSpPr>
              <p:cNvPr id="601" name=""/>
              <p:cNvSpPr/>
              <p:nvPr/>
            </p:nvSpPr>
            <p:spPr>
              <a:xfrm>
                <a:off x="16286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6668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049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366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748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144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748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144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762120" y="3200400"/>
            <a:ext cx="0" cy="12193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4419720"/>
            <a:ext cx="6858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362560" y="3900600"/>
            <a:ext cx="1495440" cy="671400"/>
            <a:chOff x="5362560" y="3900600"/>
            <a:chExt cx="1495440" cy="671400"/>
          </a:xfrm>
        </p:grpSpPr>
        <p:sp>
          <p:nvSpPr>
            <p:cNvPr id="612" name=""/>
            <p:cNvSpPr/>
            <p:nvPr/>
          </p:nvSpPr>
          <p:spPr>
            <a:xfrm>
              <a:off x="5373720" y="3900600"/>
              <a:ext cx="1468800" cy="255960"/>
            </a:xfrm>
            <a:custGeom>
              <a:avLst/>
              <a:gdLst/>
              <a:ahLst/>
              <a:rect l="0" t="0" r="r" b="b"/>
              <a:pathLst>
                <a:path w="4080" h="711">
                  <a:moveTo>
                    <a:pt x="0" y="711"/>
                  </a:moveTo>
                  <a:lnTo>
                    <a:pt x="418" y="0"/>
                  </a:lnTo>
                  <a:lnTo>
                    <a:pt x="3684" y="0"/>
                  </a:lnTo>
                  <a:lnTo>
                    <a:pt x="4080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62560" y="4119480"/>
              <a:ext cx="1495440" cy="41436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46680" y="4267080"/>
              <a:ext cx="1014480" cy="168120"/>
            </a:xfrm>
            <a:prstGeom prst="roundRect">
              <a:avLst/>
            </a:prstGeom>
            <a:solidFill>
              <a:srgbClr val="2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9744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24520" y="4327560"/>
              <a:ext cx="5868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40480" y="4327560"/>
              <a:ext cx="57240" cy="6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328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4996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94320" y="4332240"/>
              <a:ext cx="5076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76920" y="4332240"/>
              <a:ext cx="49320" cy="52560"/>
            </a:xfrm>
            <a:prstGeom prst="ellipse">
              <a:avLst/>
            </a:prstGeom>
            <a:solidFill>
              <a:srgbClr val="6000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61080" y="3943440"/>
              <a:ext cx="689400" cy="125640"/>
            </a:xfrm>
            <a:custGeom>
              <a:avLst/>
              <a:gdLst/>
              <a:ahLst/>
              <a:rect l="0" t="0" r="r" b="b"/>
              <a:pathLst>
                <a:path w="1915" h="349">
                  <a:moveTo>
                    <a:pt x="0" y="349"/>
                  </a:moveTo>
                  <a:lnTo>
                    <a:pt x="110" y="0"/>
                  </a:lnTo>
                  <a:lnTo>
                    <a:pt x="1752" y="0"/>
                  </a:lnTo>
                  <a:lnTo>
                    <a:pt x="1915" y="34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57840" y="4068720"/>
              <a:ext cx="697320" cy="47880"/>
            </a:xfrm>
            <a:custGeom>
              <a:avLst/>
              <a:gdLst/>
              <a:ahLst/>
              <a:rect l="0" t="0" r="r" b="b"/>
              <a:pathLst>
                <a:path w="1937" h="133">
                  <a:moveTo>
                    <a:pt x="0" y="128"/>
                  </a:moveTo>
                  <a:lnTo>
                    <a:pt x="0" y="0"/>
                  </a:lnTo>
                  <a:lnTo>
                    <a:pt x="1937" y="0"/>
                  </a:lnTo>
                  <a:lnTo>
                    <a:pt x="1937" y="13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20202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26000" y="4525920"/>
              <a:ext cx="6840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45240" y="4521240"/>
              <a:ext cx="6840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6345360" y="4195800"/>
              <a:ext cx="358560" cy="52560"/>
              <a:chOff x="6345360" y="4195800"/>
              <a:chExt cx="358560" cy="52560"/>
            </a:xfrm>
          </p:grpSpPr>
          <p:sp>
            <p:nvSpPr>
              <p:cNvPr id="627" name=""/>
              <p:cNvSpPr/>
              <p:nvPr/>
            </p:nvSpPr>
            <p:spPr>
              <a:xfrm>
                <a:off x="63453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7056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3943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21320" y="4195800"/>
                <a:ext cx="144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450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477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041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293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5632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80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607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635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6628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88080" y="4195800"/>
                <a:ext cx="1584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5826240" y="445932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4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58000" y="446256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11676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28488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27800" y="446400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72160" y="4470480"/>
              <a:ext cx="0" cy="33120"/>
            </a:xfrm>
            <a:custGeom>
              <a:avLst/>
              <a:gdLst/>
              <a:ahLst/>
              <a:rect l="0" t="0" r="r" b="b"/>
              <a:pathLst>
                <a:path fill="none" w="0" h="92">
                  <a:moveTo>
                    <a:pt x="0" y="0"/>
                  </a:moveTo>
                  <a:lnTo>
                    <a:pt x="0" y="70"/>
                  </a:lnTo>
                  <a:lnTo>
                    <a:pt x="0" y="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07160" y="4470480"/>
              <a:ext cx="0" cy="31680"/>
            </a:xfrm>
            <a:custGeom>
              <a:avLst/>
              <a:gdLst/>
              <a:ahLst/>
              <a:rect l="0" t="0" r="r" b="b"/>
              <a:pathLst>
                <a:path fill="none" w="0" h="88">
                  <a:moveTo>
                    <a:pt x="0" y="0"/>
                  </a:moveTo>
                  <a:lnTo>
                    <a:pt x="0" y="66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514840" y="4267080"/>
              <a:ext cx="208080" cy="92160"/>
              <a:chOff x="5514840" y="4267080"/>
              <a:chExt cx="208080" cy="92160"/>
            </a:xfrm>
          </p:grpSpPr>
          <p:sp>
            <p:nvSpPr>
              <p:cNvPr id="649" name=""/>
              <p:cNvSpPr/>
              <p:nvPr/>
            </p:nvSpPr>
            <p:spPr>
              <a:xfrm>
                <a:off x="5514840" y="4267080"/>
                <a:ext cx="237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5300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9116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22840" y="4267080"/>
                <a:ext cx="2556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61000" y="4267080"/>
                <a:ext cx="2700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00600" y="4267080"/>
                <a:ext cx="22320" cy="36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61000" y="4316400"/>
                <a:ext cx="27000" cy="4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00600" y="4321080"/>
                <a:ext cx="22320" cy="38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3048120" y="4419720"/>
            <a:ext cx="228600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72200" y="3352680"/>
            <a:ext cx="0" cy="53352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72200" y="3352680"/>
            <a:ext cx="2209680" cy="0"/>
          </a:xfrm>
          <a:prstGeom prst="line">
            <a:avLst/>
          </a:prstGeom>
          <a:ln w="381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77320" y="3124080"/>
            <a:ext cx="533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d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2860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" y="518148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24080" y="5181480"/>
            <a:ext cx="21337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81480" y="5181480"/>
            <a:ext cx="304812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81480" y="2438280"/>
            <a:ext cx="0" cy="2971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127160" y="5394240"/>
            <a:ext cx="108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565440" y="5394240"/>
            <a:ext cx="132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080040" y="5394240"/>
            <a:ext cx="136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81296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232680" y="3557520"/>
            <a:ext cx="976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824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996840" y="53352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82440" y="1752480"/>
            <a:ext cx="831960" cy="7462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2292480" y="1752480"/>
            <a:ext cx="831960" cy="7462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52280" y="1600200"/>
            <a:ext cx="335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5"/>
          <a:stretch/>
        </p:blipFill>
        <p:spPr>
          <a:xfrm>
            <a:off x="1905120" y="380880"/>
            <a:ext cx="1508040" cy="10666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8088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0948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71600" y="1295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76720" y="13716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743200" y="1600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16002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595440" y="2739960"/>
            <a:ext cx="1843200" cy="5716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746280" y="3328920"/>
            <a:ext cx="85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544920" y="2376360"/>
            <a:ext cx="1131840" cy="14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86200" y="4191120"/>
            <a:ext cx="304920" cy="457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962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69960" y="6129360"/>
            <a:ext cx="279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T:  COSTI struttura a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 ARTIGIANELLI</dc:creator>
  <dc:description/>
  <dc:language>en-US</dc:language>
  <cp:lastModifiedBy>USER ARTIGIANELLI</cp:lastModifiedBy>
  <cp:revision>0</cp:revision>
  <dc:subject/>
  <dc:title>connettersi a Internet</dc:title>
</cp:coreProperties>
</file>